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634D-2966-4DCD-A618-D4BF0F5D3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6F11-8E83-4DB1-A3B5-DFDD6C50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3473-F137-4D9E-8FB9-1E6CF40DF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7E05-CCAC-4D63-ADCF-87892D218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1917-3682-446D-9ED0-B0FB2D198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6291-B1FE-453D-8C14-D7415C8E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854D-B76B-4ACA-93D3-49EC90DC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211F-C1C6-425A-8C53-97687E46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DA80-0744-4B56-90D4-2D6F13B8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CB2B-A79D-485D-9F1A-D3447A54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25F1-7A64-41D1-B171-206D28E6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2E02-01B4-4CC6-B1F0-0112805F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2C60-286A-40EB-9BA6-B24E37F8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38CD-BB90-42D8-8B9F-CC766181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35CF-3655-4943-9E8F-5FC39CCC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8BAF-D03B-480A-B4C9-030B66CC9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AF4F-D2F1-4DE5-A5AE-F3203BD3A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952E-1422-4B2F-AF7B-633104B2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87EF-C5FC-4E1F-8508-EE4E7989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97FA-8615-4A83-B97E-266B09EA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0BF7-18F1-47F6-9CE6-6CF87347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4F02-BC3D-4B32-9691-0F8054F8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E307-D5B7-423D-AB86-D9A8B815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31DE-2571-494D-9B7D-AC016340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ED1A-76AA-4F72-AB57-21BC52C5804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F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5BA6-6AC2-4342-9496-B1D14F31DAB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:Exercises 1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2857680" y="12859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142920" y="1789200"/>
            <a:ext cx="864396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ὁ Ἰησους λεγει αὐτῃ∙ Εἰμι ἡ ζωη και ἡ εἰρηνη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και Πετρος λεγει αὐτῳ∙ Εἶ ὁ Χριστος ὁ υἱος του θεο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λαμβανω την του θεου βασιλειαν ὡς τεκν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οὐκ ἐστιν θεος νεκρω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το δαιμονιον λεγει∙ Ἰησου, εἶ ὁ ἁγιος του θεο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βλεπει θεου τον καινον οὐρανον και την καινην γη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2"/>
          <p:cNvSpPr/>
          <p:nvPr/>
        </p:nvSpPr>
        <p:spPr>
          <a:xfrm>
            <a:off x="214200" y="1343160"/>
            <a:ext cx="807264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Ἀγαπητοι, νομον ἑτερον οὐ διδασκω ἀλλα τον ἀπ’ ἀρχη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ἡ μεγαλη φωνη ἐκ των οὐρανων λεγει∙ Εἶ ὁ υἱος μου [</a:t>
            </a:r>
            <a:r>
              <a:rPr b="0" i="1" lang="en-GB" sz="2300" spc="-1" strike="noStrike">
                <a:solidFill>
                  <a:srgbClr val="000000"/>
                </a:solidFill>
                <a:latin typeface="Arial"/>
              </a:rPr>
              <a:t>my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ὁ ἀγαπητο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days are evil and evil people do evil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law is just, but it is the Gospel’s moment (tim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ach one has his own hou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hrist is the head of the chur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:Exercises 2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2"/>
          <p:cNvSpPr/>
          <p:nvPr/>
        </p:nvSpPr>
        <p:spPr>
          <a:xfrm>
            <a:off x="71280" y="1527120"/>
            <a:ext cx="9098280" cy="53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λεγει Ἰησους ἐν τῃ συναγωγῃ∙ Ἡ βασιλεια των οὐρανων οὐκ ἐστιν ἐκ του κοσμο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εἰσιν ψυχαι πολλαι των ἀγαθων και των δικαιων ἐν τῃ οἰκιᾳ του αἰωνιου θεο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ἡ ἀγαπη του θεου ἐστιν ἐν ταις καρδιαις αὐτων δια του Χριστο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ἐστιν αἰωνιος εἰρηνη τοις πιστοις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ὁ θεος ἀγαπη ἐστιν∙ ἀνθρωποι της ἀγαπης ἐν τῳ θεῳ εἰσιν και ὁ θεος ἐν αὐτοις ἐστιν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τοις Ἰουδαιοις τοις ἐν Ἱεροσολυμοις λεγει ὁ Ἰησους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:Exercises 3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2857680" y="117000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:Exercises 4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71280" y="1405080"/>
            <a:ext cx="914400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εἰ τα του κοσμου ἐργα πονηρα ἐστιν, πως οἱ πιστοι ποιουσι τα δικαια και τα καλα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ἀγουσιν τον τυφλον προς τους Ἰουδαιους ἐν τῳ ἱερῳ τῳ μεγαλ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e are sons of m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ou (pl.) are alone in Galile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faithful Jews are teaching the law of pea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es God have a new holy people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:Exercises 5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3000240" y="11811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tio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428760" y="1544760"/>
            <a:ext cx="814392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thew 12.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ἀγαθὸς ἄνθρωπος ἐκ τοῦ ἀγαθοῦ θησαυροῦ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reasure box/storeroom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κβάλλει ἀγαθά, καὶ ὁ πονηρὸς ἄνθρωπος ἐκ τοῦ πονηροῦ θησαυροῦ ἐκβάλλει πονηρά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428760" y="4106880"/>
            <a:ext cx="814392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Corinthians 13.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 χάρις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grace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οῦ κυρίου Ἰησοῦ Χριστοῦ καὶ ἡ ἀγάπη τοῦ θεοῦ καὶ ἡ κοινωνία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fellowship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οῦ ἁγίου πνεύματος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pirit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ετὰ πάντων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ὑμῶν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you (pl.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16:03:31Z</dcterms:created>
  <dc:creator>Sarah</dc:creator>
  <dc:description/>
  <dc:language>en-US</dc:language>
  <cp:lastModifiedBy>Sarah</cp:lastModifiedBy>
  <dcterms:modified xsi:type="dcterms:W3CDTF">2009-07-09T18:06:47Z</dcterms:modified>
  <cp:revision>24</cp:revision>
  <dc:subject/>
  <dc:title>Slide 1</dc:title>
</cp:coreProperties>
</file>